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410-6645-4D73-A9A0-ECA51D9A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38D-5898-4228-858B-E2AB2D3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546-AA77-4842-8A97-2DC3BE3E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938-C3AE-43BF-9023-19A82172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53D-3E5F-4FD5-BB0C-C583900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D33-2EA3-4919-A999-802012C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110-CE31-4A4B-B4AC-5C64CE14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1C9-CFFB-4682-ACD9-26758AE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82AC-06F0-4116-B10A-0678756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97F-6ECE-4ABF-BD40-9E3F66A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573-AAD0-444B-AED3-8A23297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5A2-5291-4D69-A919-63BC588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D8A3-B124-4381-96C2-2A8A6EC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D2F-1033-441F-9D7A-616BCD1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DD64-2C3D-4458-871C-BA8C26A5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6750-6C4A-4B7D-B765-69063B55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6F41-26A9-49EB-9469-4526F13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700-039D-4E35-85D4-7FB73D9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CC2-550A-41B6-9585-701A186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3BA-7E08-48F0-AC37-2A799D19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35C-ADBF-4F02-892F-F623E85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1B5-B93D-4DFB-AA03-D276366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6BC-B148-4CAF-8EF3-E0673BB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90-850E-4AA1-87CF-19487F9D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B2B9-1039-4D62-A7FF-B6642EBBB1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BE1-09F9-4B53-BF47-074ACB774B5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атематика 6 класс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У РАССКАЗОВСКАЯ ОО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асукск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: Дунай Е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л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85520" y="1981080"/>
            <a:ext cx="782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Верно ли выполнено дел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-36 : 2 = (-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60 : (-1,5) =(-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2,7 : (-1) = (+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-7,5 : (-5) = (+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-33 : (-3) = (-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л?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Вер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Вер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Не вер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Вер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Не вер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л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х 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              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: 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х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               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: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х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              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: (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= (</a:t>
            </a: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смогу»</a:t>
            </a: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именить новые правила дел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38 : 19                      -36 : 1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5 : (-15)                    60 : (-3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36 : (-6)                     -42 : (-7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70 : (-9)                     250 : (-5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4,4 : (-4)                    -8,8 : (-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смог?»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-2                                     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-3                                     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6                                        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-30                                  -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1,1                                    4,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181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Я узнал, я понял, я смог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ahoma"/>
              </a:rPr>
              <a:t>5 - Я доволен своей работой на уроке и работой своих одноклассников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4 - Я могу работать лучш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Tahoma"/>
              </a:rPr>
              <a:t>3 - Сегодня не все получилось, но у меня есть время исправитьс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РОК ОКОНЧЕ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198108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Мне есть за что вас похвалить!!!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И, конечно, не забудьте про интересное домашне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.36, № 1172(1,3ст), №1174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ЛАН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азминка «Я зна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азминка «Я могу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Я узна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Я научус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Я смогу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Я узнал, я понял, я смог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знаю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 -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-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 -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 - 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 – 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 - 4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А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Деление отрицательных чисе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и чисел с разными знак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могу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640" y="1484280"/>
            <a:ext cx="8821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АС ЖДЕТ СТРАНИЧКА НА ПЛАТФОРМ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uchi.ru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Users\User\Desktop\учии.png"/>
          <p:cNvPicPr/>
          <p:nvPr/>
        </p:nvPicPr>
        <p:blipFill>
          <a:blip r:embed="rId1"/>
          <a:stretch/>
        </p:blipFill>
        <p:spPr>
          <a:xfrm>
            <a:off x="1187280" y="3213000"/>
            <a:ext cx="6758280" cy="3503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181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ю»</a:t>
            </a: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авило деления отрицательных чисе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12 : ( -4)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х (-4) = -1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(-4) – отр.числ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А - 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304560"/>
            <a:ext cx="8396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л»</a:t>
            </a: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авило деления отрицательных чисе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Чтобы разделить отрицательное числ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на отрицательное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надо разделить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модуль делимого </a:t>
            </a: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на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модуль делите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</a:rPr>
              <a:t>(частное всегда - ?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760" y="304560"/>
            <a:ext cx="8572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ю»</a:t>
            </a: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авило деления чисел с разными знакам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24 : ( -4) 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А х ( -4) = 2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(-4) – отр.число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ahoma"/>
              </a:rPr>
              <a:t>А - 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8038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Я узнал»</a:t>
            </a: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авило деления отрицательных чисе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981080"/>
            <a:ext cx="79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При делении чисел с разными знаками, над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1) поставить перед полученным числом знак </a:t>
            </a: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«-»</a:t>
            </a: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2) разделить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модуль делимого </a:t>
            </a: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на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модуль делителя</a:t>
            </a:r>
            <a:r>
              <a:rPr b="0" lang="ru-RU" sz="4000" spc="-1" strike="noStrike">
                <a:solidFill>
                  <a:srgbClr val="92d05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4:10:24Z</dcterms:created>
  <dc:creator>Taxir</dc:creator>
  <dc:description/>
  <dc:language>en-US</dc:language>
  <cp:lastModifiedBy>User Windows</cp:lastModifiedBy>
  <dcterms:modified xsi:type="dcterms:W3CDTF">2020-10-07T18:08:18Z</dcterms:modified>
  <cp:revision>46</cp:revision>
  <dc:subject/>
  <dc:title>Слайд 1</dc:title>
</cp:coreProperties>
</file>